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1DD-E24F-452D-9175-BE832FA3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6B4-E44B-4E11-870B-27D02CBF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01B-CFBD-4878-84EE-8164C874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578-AFC3-4592-A89C-D61A0048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631-CB13-4CCA-B07B-BCCA5EC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541-628A-4BCC-B000-7474FC9D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723-138B-4518-80A0-DD07E8F0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D0F-EFC7-419D-83F5-1A70CB47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11E-579C-424B-B8A9-1E50169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FD6-257D-47A8-9A4E-F932076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EB4-0971-400E-946A-2B0C5B4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667-E4D9-4EC8-9A98-FBA9352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429E-F1FD-4395-A8BF-9FF864BEF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comic"/>
              </a:rPr>
              <a:t>Canção do exílio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4a"/>
                </a:solidFill>
                <a:latin typeface="Arial"/>
                <a:ea typeface="Times New Roman"/>
              </a:rPr>
              <a:t>Minha terra tem palmeiras, </a:t>
            </a:r>
            <a:br>
              <a:rPr sz="4400"/>
            </a:br>
            <a:r>
              <a:rPr b="0" lang="en-US" sz="4400" spc="-1" strike="noStrike">
                <a:solidFill>
                  <a:srgbClr val="e8184a"/>
                </a:solidFill>
                <a:latin typeface="Arial"/>
                <a:ea typeface="Times New Roman"/>
              </a:rPr>
              <a:t>Onde canta o Sabiá; </a:t>
            </a:r>
            <a:br>
              <a:rPr sz="4400"/>
            </a:br>
            <a:r>
              <a:rPr b="0" lang="en-US" sz="4400" spc="-1" strike="noStrike">
                <a:solidFill>
                  <a:srgbClr val="e8184a"/>
                </a:solidFill>
                <a:latin typeface="Arial"/>
                <a:ea typeface="Times New Roman"/>
              </a:rPr>
              <a:t>As aves, que aqui gorjeiam, </a:t>
            </a:r>
            <a:br>
              <a:rPr sz="4400"/>
            </a:br>
            <a:r>
              <a:rPr b="0" lang="en-US" sz="4000" spc="-1" strike="noStrike">
                <a:solidFill>
                  <a:srgbClr val="e8184a"/>
                </a:solidFill>
                <a:latin typeface="Arial"/>
                <a:ea typeface="Times New Roman"/>
              </a:rPr>
              <a:t>Não gorjeiam como lá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2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151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o céu tem mais estrelas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as várzeas têm mais flores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os bosques têm mais vida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ssa vida mais amore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  cismar, sozinho, à noite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is prazer eu encontro lá;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ha terra tem palmeiras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de canta o Sabiá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Não permita Deus que eu morra,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em que eu volte para lá;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em que disfrute os primores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Que não encontro por cá;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em qu'inda aviste as palmeiras, 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Onde canta o Sabiá. 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8651320" cy="19050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Minha terra tem primores,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Que tais não encontro eu cá;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Em cismar –sozinho, à noite–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Mais prazer eu encontro lá;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Minha terra tem palmeiras, </a:t>
            </a:r>
            <a:br>
              <a:rPr sz="4400"/>
            </a:br>
            <a:r>
              <a:rPr b="0" lang="en-US" sz="4400" spc="-1" strike="noStrike">
                <a:solidFill>
                  <a:srgbClr val="ed050b"/>
                </a:solidFill>
                <a:latin typeface="Arial"/>
                <a:ea typeface="Times New Roman"/>
              </a:rPr>
              <a:t>Onde canta o Sabiá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Slides elaborado pela Professora: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MARIA APARECIDA BERETTA.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Orientação:Professora Marta Roque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CBIV (Curso Básico de Informática Vipi)</a:t>
            </a:r>
            <a:br>
              <a:rPr sz="4000"/>
            </a:b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Ivinhema – MS - Brasil 29/05/200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2:34:30Z</dcterms:created>
  <dc:creator>Escola Filinto</dc:creator>
  <dc:description/>
  <dc:language>en-US</dc:language>
  <cp:lastModifiedBy>Escola</cp:lastModifiedBy>
  <dcterms:modified xsi:type="dcterms:W3CDTF">2009-07-30T18:46:40Z</dcterms:modified>
  <cp:revision>6</cp:revision>
  <dc:subject/>
  <dc:title>Canção do exílio </dc:title>
</cp:coreProperties>
</file>